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D12F-14AE-4998-8558-8B35A5C6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BD67-DCB5-4EA3-8662-246D5D4B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D6B6-06B0-44C1-9DDF-1B8E9E83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75B2-F4AA-46C9-9534-7ECC55B0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61F0-AB72-4C6A-984D-11CF14FF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E73E-0545-4CAF-B305-6DE18F14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ED8A-E978-4CA3-9D42-3C387B1B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2D23-3C27-4297-9A2C-2D749891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1B8E-9931-4C6E-8AE8-2B50EF06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A7C6-814B-4E7C-A813-153233D0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7072-7A8F-4127-BC67-386833CC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37D4-5A83-47C8-A5A4-5EA1213B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12D5-9091-4921-9761-6899DB21D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TROL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Manualul de Chim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clasa a X-a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odica Constantinescu, Maria-Luiza Popesc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ele cercetări legate de cunoaşterea compoz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ie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ui românesc au fost iniţiate la sfârşitul secolului trecut de către Petru Poni (1841 - 1925) la Iaşi, care a izolat anumiţi termeni ai seriilor de hidrocarburi din pe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 un amestec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lex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e hidrocarburi gazoase şi solide, dizolvate în hidrocarburi lichide. Hidrocarburile frecvent întâlnite în compoziţia petrolului aparţin în general seriei alcanilor, cicloalcanilor (naftene) şi arene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lchenele şi alchinele mai reactive lipsesc din petrol. Pe lângă hidrocarburile menţionate, în petrol mai apar şi compuşi organici cu oxigen, azot sau sulf, în cantităţi foarte mic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lful trebuie îndepărtat în cursul prelucrării petrolului, deoarece prin ardere rezultă dioxid de sulf (un gaz corozi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funcţie de locul zăcământului şi de condiţiile în care acesta s-a format, în compoziţia petrolului pot predomina una sau alta dintre aceste clase de hidrocarbur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omp_i"/>
          <p:cNvPicPr/>
          <p:nvPr/>
        </p:nvPicPr>
        <p:blipFill>
          <a:blip r:embed="rId1"/>
          <a:stretch/>
        </p:blipFill>
        <p:spPr>
          <a:xfrm>
            <a:off x="5105520" y="167652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 lichid vâscos, de culoare brună, cu fluorescenţă verde-albăstruie, cu miros 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nsitatea petrolului este mai mică decât a apei, variind între 0,800 şi 0,930 g/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e insolubil în apă, formând cu aceasta o emuls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 este procesul în care au loc ruperi ale unor legături simple C-C din alcani şi cicloalcani. Cracarea poate fi termică sau catalit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teriile prime folosite la cracarea termică sunt motorina şi păcura, iar produşii rezultaţi sunt alcani şi alchene inferioare, numite gaze de cracare, benzină de cracare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racarea catalitică foloseşte în special motorina ca materie primă. Se obţin gaze de rafinărie, benzină mai bună decât cea obţinută prin cracarea termică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Ştiaţi c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În urma prelucrării complexe a petrolului se obţin circa 300 de prod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etanul este principalul constituent al gazelor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azele naturale, care însoţesc în general zăcămintele de petrol, sunt o sursă de materii prime pentru obţinerea de produse: îngrăşăminte, mase plastice, cauciuc cloroprenic, acetilenă, metanol, formaldehidă, solvenţi, hidrogen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8T13:33:40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